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FD9-DB8A-4748-BC45-0B2FEB92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1A4-0AC3-457D-8956-4AF3F571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F1C-778D-4BEF-AD8E-3560E124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965-5A4B-407E-B504-40EE8990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56D-E15F-4F52-B274-A2FE5317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8DBC-C549-49E7-8460-38E29738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B78D-7252-45DF-98F1-70E5F3E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310-295A-465B-9CC5-56F504E7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1A5B-5AEF-44E7-99FF-5FBBC93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ED0-1DA9-4D1E-A596-067BB28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D408-49FA-4270-B1FF-5CD681D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FE7-67D1-4916-8431-8195AB3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9E6D-6C88-44D9-A322-B1D42F8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4BF-7FFB-4FFC-A52E-717CD6B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C2A8-5AEF-4004-B423-DE49F087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57E-A7C0-49F1-8AC7-40B446AC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D801-8B4B-4CF8-9C42-F9D67448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F74-9D01-4D45-86D2-A8607C7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6B8-4372-40B4-A907-A7A2519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799-63DB-49F0-B593-B046704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6A4-BF83-4D4E-80F9-6F36F04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8A4-D592-4FDC-AC25-9239FCA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39D-C016-4514-8227-5257FE7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4B8-4CBE-4B95-A5E3-7A57341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EAA-6665-4E9E-92D9-F07AE06545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699-B21C-4AD3-8C9A-BE0A78B78B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decim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236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cifre di base: 0, 1, 2, …,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posizione di una cifra in un numero indica il su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ità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i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entin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igli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3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…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numero rappresentato in notazione decim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96488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304 in notazione decim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o in base 10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04 = 2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0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4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0 + 300 + 0 + 4 = 2304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: numero e numerale qui coincidono, perché il sistema decimale e quello adottato come sistema di riferim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bi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 Cifre di base: 0 e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posizione di una cifra in un numero binario indica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3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6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2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5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51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02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048,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4096;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0720"/>
            <a:ext cx="878184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empio di numero rappresentato in notazione bin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704960"/>
            <a:ext cx="914400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 in notazione binaria (o in base 2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8 + 0 + 32 + 0 + 0 + 4 + 0 + 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5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numero più grande rappresentato con 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cif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Decimale = 99…99 = 10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Binario= 11..11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: 11111111 (8 bit binari)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1 = 255. Per rappresentare il n. 256 ci vuole un bit in più: 100000000 = 1*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= 25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Quindi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ssate quante cifre (bit) sono usate per rappresentare i numeri, si fissa anche il numero più grande che si può rappresen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16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65.53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32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4.294.967.29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64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6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circa 1,84 *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2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2 a base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5555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ta moltiplicare ogni bit per il suo peso e sommare il tut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sempi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 + 4 = 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conversione e’ una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somma di potenze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N.B. se il numero binario termina per 1 e’ dispari altrimenti e’ pari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dere il numero per 2 ripetutamente finche` il risultato non e`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ere i resti in ordine inver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conversione del numero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sion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/2 = 6/2 = 3/2 = 1/2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st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12 = 1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40464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nversione da base 10 a base 2 -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54364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8892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 di fond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usare le potenze di 2 che, sommate, danno il numero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 converti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ndere le potenze di 2 &lt;=  di N nell’ordine dalla più grande alla più piccola (cioè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1 alle potenze che vengono usate nella somma per ricostrui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0 alle potenze non us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ll’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calcolatore memorizza ed elabora vari tipi di informazion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umeri, testi, immagini, su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ccorre rappresentare tale informazione in formato facilmente manipolabile dall’elabora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istono anche altre basi di nume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822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DICE OTTA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ifre: 0, 1, 2, 3, 4, 5, 6,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(ottale) = 8 (decim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CODICE ESADECIM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fre: 0,1,2,3,4,5,6,7,8,9,A,B,C,D,E,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 (esadecimale) = 16 (decimale); B = 11; 2B=2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B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32+11 = 4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38188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bit più a sinistra rappresenta il segno del numero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= ‘+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= ‘-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1101 = -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’ indispensabile indicare il numero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bit utilizzat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t per il segno e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per il modu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 un byte possiamo rappresentare tutti i numeri compresi 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+127 (01111111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 –127 (1111111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e co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si rappresentano i valori 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6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- 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a +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79280"/>
            <a:ext cx="9144000" cy="40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sono i bit da utilizzare 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l numero da rappresentare si utilizza il valore binario pari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+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con 4 b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+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+ 7 = 16 + 7 = 23 =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0111 = 0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-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- 7 = 16 - 7 = 9 = 100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5920"/>
            <a:ext cx="8381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Rappresentazione di numeri positivi e negativi - </a:t>
            </a:r>
            <a:r>
              <a:rPr b="1" lang="en-US" sz="33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81200"/>
            <a:ext cx="9144000" cy="455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 alternativa, per i numeri negativi si eseguono i seguenti pass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rappresenta in binario il corrispondente numero positiv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vertono tutti i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aggiung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11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con 4 bit il numero –7: +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=0111 =&gt; 1000+1=1001 = -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8120"/>
            <a:ext cx="8381880" cy="18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plemento a 2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 - Addizio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66640" y="22575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segno viene determinato automaticam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: 15 – 5 (utilizzando 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cio la somma “normal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11 (ripor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111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011 (-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========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010 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: Si ignora il bit di overflow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785880" y="52876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2599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frazionari in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Virgola fis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frazionario è rappresentato come una coppia di numeri interi: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inter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e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decimal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12,52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2; 52&gt;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100; 110100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480" y="4042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in virgola mobile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3800" spc="-1" strike="noStrike">
                <a:solidFill>
                  <a:srgbClr val="336699"/>
                </a:solidFill>
                <a:latin typeface="Verdana"/>
              </a:rPr>
              <a:t>Floating point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dea:  12,52 = 1252/100 = 1252 * 1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decimale è rappresentato come un intero moltiplicato per una opportuna potenza di 10, cioè con una coppia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&lt;1252; -2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ntiss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on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812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necessario stabilire quanti bit assegnare alla mantissa e all’espon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 esempio, con 16 bit a disposizione possiamo usarne 12 per la mantissa e 4 per l’espon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in realtà dovremmo anche tener conto dei segn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6032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 lo stesso metodo possiamo rappresentare numeri molto grandi. Ad esempio, con 8 b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bit di mantissa: 11111 = 3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bit di esponente: 111 = 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111111 = 31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310 mil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tre, con la notazione classica, con 8 b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presentiamo al massimo il n. 2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01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Ma allora, perchè non usare sempre la notazione floating point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Perchè si perde in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Esempio: 5 cifre (decimali) : 4 per la mantissa, 1 per l’esponente. Rappresenta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312,4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&lt;3124; -1&gt; = [312,4 .. 312,5]??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20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96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dea di fo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resenza/assenza di carica elettr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assaggio/non passaggio di corrente/l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iamo cioè una rappresentazione binaria (a due valori) dell’inform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minimale di rappresentazione è il </a:t>
            </a:r>
            <a:br>
              <a:rPr sz="2800"/>
            </a:b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T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ry digi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– cifra digitale):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1952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: possiamo rappresentare numeri molto grandi o con molti decimali al costo di una perdita di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erchè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Perchè i computer permettono solo rappresentazioni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finit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e così dobbiamo approssimare alcuni numeri (ad esempio gli irrazionali), ma anch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immagini e su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La Codifica dei Caratte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997360"/>
            <a:ext cx="6912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B ... a b .... &amp; % $ 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odici per i simboli dell’alfab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257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appresentare i simboli dell’alfabeto anglosassone (0 1 2 ... A B ... A b ...) bastano 7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ota: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ono simboli diver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6 maiuscole + 26 minuscole + 10 cifre + 30 segni di interpunzione+… -&gt; circa 120 ogget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’alfabeto esteso  con simboli quali &amp;, %, $, ... bastano  8 bit come nella codifica accettata universalmente chiamata ASCII est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manipolare un numero maggiore di simboli si utilizza la codifica UNICODE a 16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codific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SCII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merican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tandard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 for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I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nterchange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)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tilizza codici su 7 bi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500" spc="-1" strike="noStrike" baseline="30000">
                <a:solidFill>
                  <a:srgbClr val="336699"/>
                </a:solidFill>
                <a:latin typeface="Verdana"/>
              </a:rPr>
              <a:t>7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 = 128 caratteri diversi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0 1  rappresenta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1 0  rappresenta 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 0 0 0 1 1  rappresenta  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parole si codificano utilizzando sequenze di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00010 1000001 1000010  1000001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 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0680" y="493560"/>
            <a:ext cx="7105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ltri codici di codi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93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SCII EST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a anche il primo bit di ogn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6 caratteri diver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 è standard (cambia con la lingua us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UNI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dard proposto a 16 bit (65.536 caratter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BCD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o codice a 8 bit della IBM (quasi in disus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SCII est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033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ifre 0..9 rappresentate in Ascii sono simboli o caratter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quantità numeri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ossiamo usarle per indicare quantità e per le operazioni aritmetiche. (Anche nella vita di tutti giorni usiamo i numeri come simboli e non come quantità: i n. telefonic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426960"/>
            <a:ext cx="7643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umeri in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8954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720" y="569880"/>
            <a:ext cx="7343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5640" y="2016000"/>
            <a:ext cx="8775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 1 bit rappresentiamo solo 2 diverse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/no - on/off - 0/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tendo insieme più bit possiamo rappresentare più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0 / 01 / 10 /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nformazioni complesse si memorizzano come sequenze di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 codificare i nomi delle 4 stagioni bastano 2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ern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ave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un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 bit per codificare i nomi dei giorni della settiman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49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, co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ognuno dei quali può assume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ori, possiamo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iverse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tte le possibili combinazioni di 0 e 1 su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osizion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ever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obbiamo us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in modo ch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&gt;=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640" y="1844280"/>
            <a:ext cx="9280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57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informazioni diverse dobbiamo usare gruppi di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meno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bit. Infatt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34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 = 64 &gt; 5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oè un gruppo di 6 bit può assumer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64 configurazioni diverse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00000 / 000001 / 000010 …/ 111110 / 111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714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By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sequenza d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 b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iene chiam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byte = 8 bit = 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= 256 informazioni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to come unità di misura per indi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 dimensioni della memo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velocità di trasmissio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potenza di un elaborat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ndo sequenze di byte (e quindi di bit) si possono rappresentare caratteri, numeri immagini, su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unità di mis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Kilo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K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Me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Gi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G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ragioni storiche in informatica Kilo, Mega, e Giga indicano però le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potenze di 2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e più si avvicinano alle corrispondenti potenze di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iù precis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KB = 1024 x 1 byte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MB = 1024 x 1 KB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GB = 1024 x 1 MB =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multipli del byte vengono utilizzati come unità di misura per la capacità della memoria di un elabor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9:06:01Z</dcterms:modified>
  <cp:revision>55</cp:revision>
  <dc:subject/>
  <dc:title>Diapositiva 1</dc:title>
</cp:coreProperties>
</file>